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1850"/>
        <c:axId val="9670653"/>
      </c:barChart>
      <c:catAx>
        <c:axId val="8641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0653"/>
        <c:crosses val="autoZero"/>
        <c:auto val="1"/>
        <c:lblAlgn val="ctr"/>
        <c:lblOffset val="100"/>
        <c:noMultiLvlLbl val="0"/>
      </c:catAx>
      <c:valAx>
        <c:axId val="9670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1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515-EEA8-4A06-A4FB-8B074398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672-49E2-4200-B71F-F3B8D929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CE3-D817-4BC0-B541-7E7C9B1C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C5B-1F9D-447D-AAE3-62F3BF11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AA8-0984-4966-BD90-679D417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020-231F-4B7B-BB6D-A66C0A82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425-10D9-4855-8257-69F72E1E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429-45AC-4C11-A28E-F0CCE05E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D23-8EEC-4F7E-97C1-2C4C363E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50C-D6D1-4262-8DCC-81EA930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196-AA8D-4421-860B-37FBA463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F79-1DCA-4D4C-BF97-4B572D43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60205-058D-4BDB-9BA3-04DB9F5053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