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00371"/>
        <c:axId val="334936"/>
      </c:barChart>
      <c:catAx>
        <c:axId val="886003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936"/>
        <c:crosses val="autoZero"/>
        <c:auto val="1"/>
        <c:lblAlgn val="ctr"/>
        <c:lblOffset val="100"/>
        <c:noMultiLvlLbl val="0"/>
      </c:catAx>
      <c:valAx>
        <c:axId val="334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003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B1F-CB72-4303-B859-AB3267DF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E08-2505-43C2-92E3-4F735676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C70-B745-4527-913B-1449D30B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444-30F3-4EA4-A18B-CA26DC26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0BF3-B9C8-425B-86FB-4CEF9102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4D1-FE3C-44D5-8F7D-BB3A3233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34B-CEDB-40EB-AA4C-37F42ADA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05E-5FC7-4A77-8C39-D73E4F7C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FA10-4A35-442D-A897-0D2E6460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E85-8A42-4432-BB32-809F391F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19A-D0D9-454E-949A-B3563CEC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83B-9E23-445B-B8E2-7B186215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8F34D-E62C-48E4-A4E0-E8B3BB7606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