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469205"/>
        <c:axId val="25221944"/>
      </c:barChart>
      <c:catAx>
        <c:axId val="884692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21944"/>
        <c:crosses val="autoZero"/>
        <c:auto val="1"/>
        <c:lblAlgn val="ctr"/>
        <c:lblOffset val="100"/>
        <c:noMultiLvlLbl val="0"/>
      </c:catAx>
      <c:valAx>
        <c:axId val="252219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692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01E8-27B3-42B7-85BA-8F451E53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566D-97C8-42B6-90B9-7FB4210A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6C10-C9D4-40EE-BA33-C180860AE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FB58-B6F6-4BC1-92A4-0BC331359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34FE-D107-4046-8E8C-71FF3BCA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9291-EA38-4142-A8C6-0A47C59F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9582-2035-4447-8E76-078B3F65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D333-CDA4-48D6-9D11-B73B4A25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F742-BCE4-440E-8D8E-7594018E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FD73-B39A-49C7-8BC6-F9105EE0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C971-F28C-47A3-86E9-A08AACF6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4751-B570-45C6-9DB3-25C2ADAB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9D196-ECFC-499A-B5FD-0F450A0AAB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