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875316"/>
        <c:axId val="73770638"/>
      </c:barChart>
      <c:catAx>
        <c:axId val="558753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770638"/>
        <c:crosses val="autoZero"/>
        <c:auto val="1"/>
        <c:lblAlgn val="ctr"/>
        <c:lblOffset val="100"/>
        <c:noMultiLvlLbl val="0"/>
      </c:catAx>
      <c:valAx>
        <c:axId val="737706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8753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A430-75BA-4B7A-9520-EFCDD22A5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F391-0CB3-42C6-AC59-6C14A01B3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05BF-AFFD-4E9B-8C39-1FF18576B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89B6-E479-4A23-8A4A-8F3325A95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4DB0-982B-4264-ABD0-FFF978828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17C2-8DF5-41BB-A395-4457066DF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0EA1-E421-41D9-8859-B6B7C2EFF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18FC-A8A4-4D17-B994-798FA048B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D5AA-6144-4FAC-97A2-DE242FDAA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2690-05FF-4A74-8AB1-9467E2D7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2704-333B-4627-B4A4-F665D088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1851-EF78-4444-B466-9EBB86437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144A06-A0EA-4DBB-ACDD-23FCF1655B5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