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84153"/>
        <c:axId val="38689203"/>
      </c:barChart>
      <c:catAx>
        <c:axId val="32484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89203"/>
        <c:crosses val="autoZero"/>
        <c:auto val="1"/>
        <c:lblAlgn val="ctr"/>
        <c:lblOffset val="100"/>
        <c:noMultiLvlLbl val="0"/>
      </c:catAx>
      <c:valAx>
        <c:axId val="3868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4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71B-0940-4545-BA4A-C6DEFAE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9C7-6E3B-4B29-BB16-444F9524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E33-3BB0-485E-84A3-15AE8EF8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A3F-A782-4C31-981F-F37357A1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B40-3CC7-4DED-BBB5-7C86D0E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C30-49FF-49B3-8DD5-E764969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B93-0F22-47DA-8922-DFE7800F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5C9-1EC2-4E00-BAC3-A8FBC9DF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D31-0217-4F0B-A904-03DF8BD7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378-BC85-499F-84B4-37B707D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5C2-9BF8-42B4-B815-2AB2148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9AC-1A51-42AD-9D83-EB314FE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AB399-00B7-41A9-9349-006A43BC2B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