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993933"/>
        <c:axId val="19250566"/>
      </c:barChart>
      <c:catAx>
        <c:axId val="83993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50566"/>
        <c:crosses val="autoZero"/>
        <c:auto val="1"/>
        <c:lblAlgn val="ctr"/>
        <c:lblOffset val="100"/>
        <c:noMultiLvlLbl val="0"/>
      </c:catAx>
      <c:valAx>
        <c:axId val="192505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93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3474-F103-462E-B4AA-51025C29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D029-B4D7-4377-8169-9C3891A1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7525-A892-4B5C-9257-C965183F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AEA8-D7FE-4DE0-B27B-A2E1EBB0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3D1C-4CC6-49F5-95C0-09654D46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83B9-E06A-4274-9CA5-8B7BFBCD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AC23-D80B-4849-A5DD-BDB2A782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CE58-B586-4382-8F18-D017F160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7567-B3BA-497A-A22E-1A1F0EA2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2D30-7C8A-4341-8628-4D63C380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6F11-9243-4EFE-B9F2-AA937C79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2C17-7C47-43BD-B48A-2F882824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73C4B-504C-4661-86C7-D60919BA06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