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93569"/>
        <c:axId val="93402783"/>
      </c:barChart>
      <c:catAx>
        <c:axId val="55893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02783"/>
        <c:crosses val="autoZero"/>
        <c:auto val="1"/>
        <c:lblAlgn val="ctr"/>
        <c:lblOffset val="100"/>
        <c:noMultiLvlLbl val="0"/>
      </c:catAx>
      <c:valAx>
        <c:axId val="93402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93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31C-AEE4-4F92-B323-3D7AE00A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FCD-ABB0-4B9F-8D42-79B7FE2A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558-A244-43A7-90C2-E8BA8CB1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A76-F994-4C28-9700-14105671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EA0-D37C-4091-8E8E-9C00BFDB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9C4-9030-48C0-BD63-46D0B802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42B-928B-43EB-8D57-0CF921C3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4A9-CFAC-405F-9BD2-5B7A318B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BD5-16E1-4502-A3C3-6FACBE5B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36C-25F6-4668-9ACE-1E86CCC1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C03E-CEB3-475D-B3CE-2656BE42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F04D-DD93-4F25-A410-D6AADF06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8BCED-C018-496E-9D60-7D7E5998FC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