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104984"/>
        <c:axId val="26812496"/>
      </c:barChart>
      <c:catAx>
        <c:axId val="971049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812496"/>
        <c:crosses val="autoZero"/>
        <c:auto val="1"/>
        <c:lblAlgn val="ctr"/>
        <c:lblOffset val="100"/>
        <c:noMultiLvlLbl val="0"/>
      </c:catAx>
      <c:valAx>
        <c:axId val="268124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1049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B03A-F82F-4276-A336-DBC053E6D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EFD4-98E8-4D74-B19E-52C6DC2B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F0A2-6706-455E-B4D4-051B5C981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4CD3-A511-4AFD-A1E9-CC57DB7F3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1DE9-F4C9-439E-8523-8AACDCC1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0A11-CC03-4058-A0C6-C4811967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4CCC-E207-4B01-B919-8CFF6BD7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1651-B34B-473A-8C21-4B82BDCA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EE82-9C90-41B7-92EB-44747F22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3EFB-5DD7-438C-A6B3-597F4EBB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24D1-0CF1-4D60-B1B9-CCD304F9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48E5-896B-4092-AD1B-7D9BD26D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3701A-EEBD-4437-99C2-9161A5B72A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