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77830"/>
        <c:axId val="89823442"/>
      </c:barChart>
      <c:catAx>
        <c:axId val="52077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23442"/>
        <c:crosses val="autoZero"/>
        <c:auto val="1"/>
        <c:lblAlgn val="ctr"/>
        <c:lblOffset val="100"/>
        <c:noMultiLvlLbl val="0"/>
      </c:catAx>
      <c:valAx>
        <c:axId val="898234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77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1503-C9DD-4539-9F9D-63253573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088-6BCA-4B18-9461-BE038A43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228-72AF-4360-A22F-3FA864E0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9A3-09A7-4C33-BA0C-71049F34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1FA-4C19-43C9-880B-D85A39B9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D8A-FE3B-449C-B0AB-86A31CF8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F00-7AD4-4A50-8553-7924C4A8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5DC-17F0-4BBB-9183-496D6165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417-1FDA-487D-87DE-01888457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B2D-5DB0-45EF-BC02-5DC7A8FC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C6CC-327B-411D-AC84-B5938226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262-A3DC-4459-B72F-48DD4B65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161D2-C492-46D0-938E-CBE0E5CF2A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