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02476"/>
        <c:axId val="90825716"/>
      </c:barChart>
      <c:catAx>
        <c:axId val="93102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25716"/>
        <c:crosses val="autoZero"/>
        <c:auto val="1"/>
        <c:lblAlgn val="ctr"/>
        <c:lblOffset val="100"/>
        <c:noMultiLvlLbl val="0"/>
      </c:catAx>
      <c:valAx>
        <c:axId val="90825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02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7B9-BA9B-45D1-B4CD-72E8BBC1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A85-E77B-461F-A214-C7F59AC9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F95-8BCA-47C1-B3FA-8F0EEF12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315-5F23-46B2-95A4-DE080778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A1C-08F4-4E11-9F88-5BEFB3C7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8C5-98FE-4A98-80E5-0322F5BB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6F7-4C48-4388-9449-F0540EE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65C-42EA-4B64-A57B-19C71F67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C71-E3C3-4BFA-A1B7-BA38D596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BDC-DA1C-4ABE-83C7-1287514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020-DCC9-45C7-A8D8-63AD168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EFA-07C4-4F2E-B43E-168AC56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5D374-CF0A-4531-A808-8DB3524EF1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