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48267"/>
        <c:axId val="23569966"/>
      </c:barChart>
      <c:catAx>
        <c:axId val="85548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69966"/>
        <c:crosses val="autoZero"/>
        <c:auto val="1"/>
        <c:lblAlgn val="ctr"/>
        <c:lblOffset val="100"/>
        <c:noMultiLvlLbl val="0"/>
      </c:catAx>
      <c:valAx>
        <c:axId val="23569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48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643-79AD-4BE8-9510-B148A8A6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60C-F9C0-40F2-90C8-35F6F62A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1AB-6AAE-4A3D-B1CF-A156C717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4F7-F057-474F-825F-BAF04461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A11-D5B5-4C4B-9742-7F135FBA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5A0-7280-42E7-9C39-FC1E025D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0EF-886C-4A64-A1B1-30D29936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C60-261B-4484-A30B-72D0C31B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5CF-749D-4076-8708-3716E54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AA2-F07B-4811-8D86-3049C5B5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999-6680-47BF-8D8B-34F0A18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C0B-A8B2-45C2-B7D6-450F29FC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DFD48-10C8-43FE-A1EB-D1C070EAD5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