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84715"/>
        <c:axId val="84424967"/>
      </c:barChart>
      <c:catAx>
        <c:axId val="173847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24967"/>
        <c:crosses val="autoZero"/>
        <c:auto val="1"/>
        <c:lblAlgn val="ctr"/>
        <c:lblOffset val="100"/>
        <c:noMultiLvlLbl val="0"/>
      </c:catAx>
      <c:valAx>
        <c:axId val="844249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847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E9F-3530-4476-B109-7D32288D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59FB-2E26-4ED8-BADC-2D87E04D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A236-1E11-419C-B16D-9F72C284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0ED3-B329-4938-A032-C358E79E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A748-DFE5-4AD8-B9EF-07B44DFA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138-98DB-458F-9AC6-18CCCD1A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F7F6-EA5B-4369-824C-2699E211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AE43-2024-4A9D-9736-37F8C762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9380-09C2-4EDA-82B6-0BBF9643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80BC-E85D-40C3-800C-32C964F8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A96F-C857-4BB2-9C81-83CB9893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4F6-C983-48D5-A48C-D173FC68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E5B2D-FB5F-474E-97C6-81D92EF53D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