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86562"/>
        <c:axId val="10330881"/>
      </c:barChart>
      <c:catAx>
        <c:axId val="11586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30881"/>
        <c:crosses val="autoZero"/>
        <c:auto val="1"/>
        <c:lblAlgn val="ctr"/>
        <c:lblOffset val="100"/>
        <c:noMultiLvlLbl val="0"/>
      </c:catAx>
      <c:valAx>
        <c:axId val="10330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86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23C-8BD8-44F4-9CA0-563484D9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8F2-6F9C-4E2C-9160-671EC848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7DE-27FA-4B94-8D0A-8F2125D8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09F-425E-4759-A6A2-CCF5C4A3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95C-D29F-4094-A597-C20F55F4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64C-4473-4F33-A046-E37A0F6D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E41-0A53-4BF4-BAEF-47AC7E3D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BF0-2C89-49A8-96AB-B5D134CB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D03-56B3-4C81-8FAC-6513DC1D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F87-7B0E-4A2D-A67F-E96E77CD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FF3-EF64-4124-A5E0-1D715A17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5D9-8485-4FF9-9A67-A0C583C8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C9733-6E4C-46B9-B4E6-6A016541AA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