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79787"/>
        <c:axId val="18448943"/>
      </c:barChart>
      <c:catAx>
        <c:axId val="23679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8943"/>
        <c:crosses val="autoZero"/>
        <c:auto val="1"/>
        <c:lblAlgn val="ctr"/>
        <c:lblOffset val="100"/>
        <c:noMultiLvlLbl val="0"/>
      </c:catAx>
      <c:valAx>
        <c:axId val="18448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9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16B-D3D1-4432-A5D6-53F69FAC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E81-C5FC-43E6-B841-5C02D68A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595-A68A-4EC4-86CF-4C219083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D50-E369-4FEA-8DD1-C72DD99D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07E-B8E5-41EA-919A-1D93326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AA4-591C-4499-BAD4-915D66B5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A67-CFB2-4F03-B458-34BBEC9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458-74C4-4306-BD89-364D216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8BC-6A9C-496D-9719-DC3B7B9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185-2A6F-4D15-9E49-27574FA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3DC-BADF-4AF3-814E-2D19F50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83A-39C8-414F-93AA-D9B13CF3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D5C4D-9E81-4CF8-BEF8-BBD8E907D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