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60417"/>
        <c:axId val="13387554"/>
      </c:barChart>
      <c:catAx>
        <c:axId val="67960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87554"/>
        <c:crosses val="autoZero"/>
        <c:auto val="1"/>
        <c:lblAlgn val="ctr"/>
        <c:lblOffset val="100"/>
        <c:noMultiLvlLbl val="0"/>
      </c:catAx>
      <c:valAx>
        <c:axId val="13387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60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4C8-BA36-46DF-8CB0-1EA1682B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D3E-C86A-4D51-8B7D-1117C900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E94-3D0F-4281-B2EC-61CF68A5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0B6-8684-46BC-9141-FDBF2081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F49-FA80-4B76-83D8-407113CD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93D-6A43-4126-BEA3-DB55F68C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2F9-552C-4AB7-B732-05B613D0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42A-A064-451A-B635-1EEAB35B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015-FFBB-4FB9-BB4F-FAA3E2DB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07B-2605-4423-906F-6FF85A59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B0B-5A3D-484A-BD58-1140A2F7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902-C2A3-497A-8438-5FAFE63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81B49-424E-479F-8738-2A1B9FC7A6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