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93328"/>
        <c:axId val="44378018"/>
      </c:barChart>
      <c:catAx>
        <c:axId val="14093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78018"/>
        <c:crosses val="autoZero"/>
        <c:auto val="1"/>
        <c:lblAlgn val="ctr"/>
        <c:lblOffset val="100"/>
        <c:noMultiLvlLbl val="0"/>
      </c:catAx>
      <c:valAx>
        <c:axId val="44378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93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6B4-A4E7-4B56-A5E7-95C5FC1E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362-A53C-42C8-986B-62A4656E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E7F-A7F8-4A71-B306-1D2C4687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8B0-A92D-4EC3-82EB-5EE44B26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660-CB33-4C22-9CCA-9C17B4AC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968-C1E8-445E-820B-13DAC467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196-8391-42CE-98FA-BD6B16A1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0EE-B597-4147-8A88-5A60D56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D27-B17E-4289-9618-D3E4E948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A87-30B4-40D0-9E40-446DE896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36D-A723-4BDE-8ECE-28D4F10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717-CAE4-4E22-A530-A711DC17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EE8FF-5090-4707-8CE9-863AE43164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