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5589"/>
        <c:axId val="56517236"/>
      </c:barChart>
      <c:catAx>
        <c:axId val="4685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17236"/>
        <c:crosses val="autoZero"/>
        <c:auto val="1"/>
        <c:lblAlgn val="ctr"/>
        <c:lblOffset val="100"/>
        <c:noMultiLvlLbl val="0"/>
      </c:catAx>
      <c:valAx>
        <c:axId val="56517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5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17B-F9D5-464B-B2F7-1C862A89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834-78EC-4F86-BDA4-877BAD15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F76-CD25-4465-A57F-9D94BB96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EF1-D90B-4C63-92CB-0A07902E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41C-9365-47DF-AF5F-BB66608E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80B-A240-4322-B06E-EB9B627C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A42-05D7-46AF-B9F9-FA794BF2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0CB-254A-4814-B1AB-11760EB0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54A-2E59-4AFA-BE63-B371DEB6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3DE-D2D7-45FC-882F-1FFFB146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F51-1A30-41FD-9507-C83A903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829-04E8-40BD-AED9-97E4BD2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8DE93-71F4-490C-931E-9FF41BF46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