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48449"/>
        <c:axId val="53861158"/>
      </c:barChart>
      <c:catAx>
        <c:axId val="90148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61158"/>
        <c:crosses val="autoZero"/>
        <c:auto val="1"/>
        <c:lblAlgn val="ctr"/>
        <c:lblOffset val="100"/>
        <c:noMultiLvlLbl val="0"/>
      </c:catAx>
      <c:valAx>
        <c:axId val="53861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48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31E-4762-4CA0-93E5-A6F90280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060-9DB5-4805-9375-BD9BB768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2DC-6C04-472F-88D8-569E9D48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C68-15EE-4116-939B-2B4E0D5C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47C-508A-4182-A634-7DF93481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262-66A2-4593-878D-9AFEF658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34E-410B-451F-BC58-584748CF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F39-EC54-4460-B47A-D7F709F6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FBB1-89E8-4E6C-A258-C44F0B77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A88-BB98-4CA0-82BF-D29F02A8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738-8B0E-4BCA-9AB3-1A208157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386-B11A-4858-ADFE-2CA8A55F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366B6-4FF3-4667-8D30-C30E340441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