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945431"/>
        <c:axId val="64575029"/>
      </c:barChart>
      <c:catAx>
        <c:axId val="899454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75029"/>
        <c:crosses val="autoZero"/>
        <c:auto val="1"/>
        <c:lblAlgn val="ctr"/>
        <c:lblOffset val="100"/>
        <c:noMultiLvlLbl val="0"/>
      </c:catAx>
      <c:valAx>
        <c:axId val="645750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454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913A-88AD-4D17-8210-B13C99C82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1B46-90CE-4116-950C-DDE5C0AB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B35A-B9D0-45BA-8483-14142F082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0D82-0B13-43F5-A5AC-5268B8BD4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B6FB-5200-43B9-A8D6-61CF940F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412B-1D07-4867-928D-BBEB41B1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1FEA-0F4A-46BD-A095-B18CC25D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A4F4-2699-4132-954F-13BA1DCB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18FB-3F9E-4311-9A6D-91B0A383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FC99-BF22-44EE-AF17-327FC092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18C9-E3E0-4DC2-946C-62990C83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44FC-BA1C-49AD-BADA-7322D1C2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B45BD-E0C5-4359-9DC0-494EAB15EB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