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86420"/>
        <c:axId val="69756122"/>
      </c:barChart>
      <c:catAx>
        <c:axId val="67486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56122"/>
        <c:crosses val="autoZero"/>
        <c:auto val="1"/>
        <c:lblAlgn val="ctr"/>
        <c:lblOffset val="100"/>
        <c:noMultiLvlLbl val="0"/>
      </c:catAx>
      <c:valAx>
        <c:axId val="69756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86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F45-E9C7-4F59-9C40-56078DD7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556-3FCC-475D-90AA-E3900BE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49B-9103-4AEF-972F-6117DEA9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3C7-1A75-4265-B748-8C3A6EB6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445-5E5B-4357-BE85-BC85105D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59A-B251-4287-9491-6929A36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EAA-E3D3-4992-BC58-5DF0758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803-1D69-4620-B741-383CAFD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BAC-9C8D-44AB-938D-4C4E8C7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871-8252-44C2-83BB-94A672E7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EAF-6E23-4006-85C8-336FBE9F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1CB-C9E0-47C8-B2F8-F0C3979E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BE132-EFF5-4C8C-BFB0-F34EE47FB1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