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73735"/>
        <c:axId val="90347731"/>
      </c:barChart>
      <c:catAx>
        <c:axId val="76673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47731"/>
        <c:crosses val="autoZero"/>
        <c:auto val="1"/>
        <c:lblAlgn val="ctr"/>
        <c:lblOffset val="100"/>
        <c:noMultiLvlLbl val="0"/>
      </c:catAx>
      <c:valAx>
        <c:axId val="90347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73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D0E-76CD-4C00-A46D-EB2049A5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85C-0F32-4FD6-99E7-BA9E93E0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269-D52F-47DA-89BE-DB38CDCE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A74-EA29-4F26-8E8E-D4F83A19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E60-8876-4BC6-AB91-B55B2ADD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306-2656-4DB8-A133-3E2B95AB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42C6-9643-4412-9891-C64C862C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2E0-4486-4BB9-A98A-1EEEC303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FEF-5A9E-4302-9FD4-C6A918AC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D8A-2CDE-4077-A699-7B8A1AF0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5FB-8D5D-4CAF-9C47-7BF1B0AB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7C1-90CE-4208-9C44-9C3ED161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10796-B837-4F1C-ACCF-FB76488D85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