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52951"/>
        <c:axId val="8756270"/>
      </c:barChart>
      <c:catAx>
        <c:axId val="59652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6270"/>
        <c:crosses val="autoZero"/>
        <c:auto val="1"/>
        <c:lblAlgn val="ctr"/>
        <c:lblOffset val="100"/>
        <c:noMultiLvlLbl val="0"/>
      </c:catAx>
      <c:valAx>
        <c:axId val="8756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52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6CE-C904-4E11-9292-5CB893C6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96A-4567-442A-9A11-1461C88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8B1-B9DB-4E2D-A970-F485D841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2F6-CF45-46B3-A9B7-1A754D7C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F3A-48B8-48F1-8C70-0982011D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BEC-B519-4C1E-822C-AA5BF33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954-1255-450E-9C52-67400751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52D-3C0B-4686-A83A-105E206A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9A3-B84C-4E19-9393-ABA409C5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4C3-2D02-4C9D-9CD4-7BB2CA2B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B07-57CA-4390-97A2-4C68686A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19B-98E4-4D40-AB9B-6FC8270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F0367-611D-40FA-AE3C-843FFCF17E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