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64865"/>
        <c:axId val="45092979"/>
      </c:barChart>
      <c:catAx>
        <c:axId val="36164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92979"/>
        <c:crosses val="autoZero"/>
        <c:auto val="1"/>
        <c:lblAlgn val="ctr"/>
        <c:lblOffset val="100"/>
        <c:noMultiLvlLbl val="0"/>
      </c:catAx>
      <c:valAx>
        <c:axId val="4509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4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7E3-CD21-45CF-B492-84845119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3A1-046E-4D8F-A31E-8C8FCF1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DA3-A628-484B-91D3-353D0835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0F8-FDA5-4D7A-AF6E-4B1D0174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233-A312-43EE-B297-F2E7C47B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D07-6912-4DDD-839D-D64F1764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FA9-754B-4D79-81C4-4934337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9DB-88C7-488D-8A49-4DD2715B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530-0B3B-4F93-BC35-4A5D1059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D43-3C17-4BF6-A603-65461C3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B99-F682-4434-B477-1D32CE6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05D-BF1C-4397-9D3E-1AD0C90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D565F-0128-4D14-BBF1-0DA199D11C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