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17413"/>
        <c:axId val="86428938"/>
      </c:barChart>
      <c:catAx>
        <c:axId val="16017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28938"/>
        <c:crosses val="autoZero"/>
        <c:auto val="1"/>
        <c:lblAlgn val="ctr"/>
        <c:lblOffset val="100"/>
        <c:noMultiLvlLbl val="0"/>
      </c:catAx>
      <c:valAx>
        <c:axId val="86428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17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D76-27AA-4A21-B520-02348FAD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E0F-495F-458B-B7CC-2F1C783D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249-C1CB-471A-AA36-DA6199EB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549-EC89-435B-8163-33297183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F50-4F8C-4009-84A7-2F12D999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F14-9241-4241-B9E1-3AE2F4A0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729-D123-47DF-AE26-0DE71804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717-C4B5-4476-81AB-AAE371C4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366-AC5C-4EBA-8D89-F13F98DE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937-D008-4A35-9D1D-7C7BA68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36B-BCB3-45CA-AAF7-CAE3CCC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E71-B0BA-41F4-8808-A24A78DB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B327C-B650-4428-8008-35CEB40E07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