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90767"/>
        <c:axId val="15118791"/>
      </c:barChart>
      <c:catAx>
        <c:axId val="37690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18791"/>
        <c:crosses val="autoZero"/>
        <c:auto val="1"/>
        <c:lblAlgn val="ctr"/>
        <c:lblOffset val="100"/>
        <c:noMultiLvlLbl val="0"/>
      </c:catAx>
      <c:valAx>
        <c:axId val="15118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90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AF5-B07F-4BC6-938E-14D717D2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5A2-73E5-4651-8D7D-F2346C9D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62D-7643-47A6-92D3-B3411B44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E21-E039-42CF-B324-2AC677BC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F86-7D89-42D0-9B4F-BE05A99A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AA1-3BFE-426C-8C4F-7A7A512F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2AA-AA09-4E1E-B233-CE93205C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421-8230-4F68-9C89-AF4E6498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1B5-64D4-45D4-9CFB-9C8C9555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6FF-59E0-43C1-AA5B-ED44596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395-C58B-4697-ACAA-E9E58E0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F22-E7DF-404B-A048-5D9C7F7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FEABC-6932-48D2-8110-D2849C370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