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60206"/>
        <c:axId val="47972231"/>
      </c:barChart>
      <c:catAx>
        <c:axId val="65960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72231"/>
        <c:crosses val="autoZero"/>
        <c:auto val="1"/>
        <c:lblAlgn val="ctr"/>
        <c:lblOffset val="100"/>
        <c:noMultiLvlLbl val="0"/>
      </c:catAx>
      <c:valAx>
        <c:axId val="47972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60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52E-7EC2-4011-AC6E-1B8215AE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281-8487-494A-9F64-069D3E84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F8E-4114-4E1C-A5F7-463D9EFC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C56-6D8E-4E19-92CA-8CD7E7F5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38D-7E12-4B5C-A8BE-9FA072DE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0ED-6FB4-422E-AEF0-8FD44047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C89-CE16-4B0E-A75C-AA8C6057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7AB-B27F-4C80-ABDA-B13973DE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1E7-7367-4DDA-846A-D21DE588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ACC-63E1-4593-84AA-6844C783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F5B-B19E-4206-8A9D-8A85F76A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8AA-2851-44E1-92DD-71308E30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35FAB-DA5A-46B0-8731-D6BBF1D3CF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