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30481"/>
        <c:axId val="51447020"/>
      </c:barChart>
      <c:catAx>
        <c:axId val="35330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47020"/>
        <c:crosses val="autoZero"/>
        <c:auto val="1"/>
        <c:lblAlgn val="ctr"/>
        <c:lblOffset val="100"/>
        <c:noMultiLvlLbl val="0"/>
      </c:catAx>
      <c:valAx>
        <c:axId val="51447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30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E87-D939-4E06-B6E9-6DB60651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B3A-6192-4FAE-88EB-CA2B6664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A18-CD42-4246-A5BB-9BAA95D7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509-7BE7-4243-A2B5-C3BEF541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E14-D71B-4075-97A4-1522014D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6F0-6607-47F6-860F-30FBE9E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43A-A82F-4AD0-8FB5-1455B4F8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8C0-F278-4ECB-9F8B-EED50D62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DFF-CA66-4C38-8675-8AA91E0E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A6E-E2AF-4BE0-9596-A84A7676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E25-2B65-42C1-A798-637F18BC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32F-63E0-4252-B686-2BE945BF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C8B0E-ED45-44C6-B60C-542CF4672C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