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70096"/>
        <c:axId val="87319368"/>
      </c:barChart>
      <c:catAx>
        <c:axId val="40070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19368"/>
        <c:crosses val="autoZero"/>
        <c:auto val="1"/>
        <c:lblAlgn val="ctr"/>
        <c:lblOffset val="100"/>
        <c:noMultiLvlLbl val="0"/>
      </c:catAx>
      <c:valAx>
        <c:axId val="87319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0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C56-8E2D-49CC-A353-FD03E053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960-252E-4BE0-8833-7A4CF5BC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7D9-6ADA-4E70-AFBE-304715F9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A84-FCE8-4468-802D-CDF7D733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883-4D73-4337-9A14-32D4448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A45-2F80-4C57-8E89-9470B340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683-5FF3-4029-9A99-0FA2D831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BBA-4891-4493-8E3B-E362790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CFE-3EF9-48E0-A540-E5836B0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95C-FE96-44F7-A8F2-6E3D09B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0B6-04D5-46CA-8E3A-9C200BC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7D5-0442-4532-AA2B-A075122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17DE6-7B15-4D3F-BC13-5F4F44BB0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