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00206"/>
        <c:axId val="85255197"/>
      </c:barChart>
      <c:catAx>
        <c:axId val="26800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55197"/>
        <c:crosses val="autoZero"/>
        <c:auto val="1"/>
        <c:lblAlgn val="ctr"/>
        <c:lblOffset val="100"/>
        <c:noMultiLvlLbl val="0"/>
      </c:catAx>
      <c:valAx>
        <c:axId val="852551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00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185F-3AAD-4182-B43A-7C596ADD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7C0-D67E-4912-9E11-3A930248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81F-09B5-40B9-8A4C-2A61E1E8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DF37-C8DC-458F-AD65-73910419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8FDB-7ECD-42B9-9EB0-1EC55873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F84-6AD9-4675-8917-CAAA037D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1F9-7E18-4D25-BA45-935FE7F3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FAC-26A4-4457-8BBF-C332416F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0D5-ABF0-4234-BF9A-5676A3C2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FB8-DFAE-4B87-B59D-F4D230A5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7892-0077-41F2-8759-671C25D2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12C-BA3E-4A5D-9BA8-5B52CEAE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92070-C54E-450D-AC0E-3934C3DB29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