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25425"/>
        <c:axId val="25992146"/>
      </c:barChart>
      <c:catAx>
        <c:axId val="51525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92146"/>
        <c:crosses val="autoZero"/>
        <c:auto val="1"/>
        <c:lblAlgn val="ctr"/>
        <c:lblOffset val="100"/>
        <c:noMultiLvlLbl val="0"/>
      </c:catAx>
      <c:valAx>
        <c:axId val="25992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25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1F0-26E6-4470-BB7E-95A4B87A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E8E-F797-4BAE-8439-F4E3CA31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E01-B6DE-4F4C-AE3E-0C0E3FC6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FA0-9FDF-4F20-A6FF-2B1F8143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A8D-7FBD-48C0-889E-16AE8133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322-15CF-4A62-AD29-C9171D80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85E-DEE8-4B94-88E3-2A3D772C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310-4392-482E-BDD3-4583FBB3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F70-80A7-48F1-8CEC-9D15F025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17D-B1D0-4AC5-A3CA-CC13756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B1B-48CB-48AE-9B53-351CC72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899-22B3-43BC-988A-F4DA726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C8A01-057A-46B9-B1EA-17ED55AD75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