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92147"/>
        <c:axId val="76440180"/>
      </c:barChart>
      <c:catAx>
        <c:axId val="7429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0180"/>
        <c:crosses val="autoZero"/>
        <c:auto val="1"/>
        <c:lblAlgn val="ctr"/>
        <c:lblOffset val="100"/>
        <c:noMultiLvlLbl val="0"/>
      </c:catAx>
      <c:valAx>
        <c:axId val="76440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9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C23-7A72-4DB5-A061-F067A22C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CD4-2A7D-43AF-B029-D3FB1A8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D9C-9223-40BB-8DA3-C332317B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3DB-DCC3-4617-9554-83F912B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FDA-4F41-4512-B409-0F4521C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65F-AD95-4382-B37C-223DDD3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FD1-4F3D-444B-B830-B03C08C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950-5007-47A4-9D31-18AE3F27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66A-DB1F-4FBB-916F-AE11117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B10-14ED-4BD0-949D-B6CF819C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AF2-A583-49BD-9B47-CF4EC21E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CD4-D575-4D22-8EED-202E008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7AF39-0F47-4BEA-89AE-E79A825FB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