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57998"/>
        <c:axId val="56025926"/>
      </c:barChart>
      <c:catAx>
        <c:axId val="70857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25926"/>
        <c:crosses val="autoZero"/>
        <c:auto val="1"/>
        <c:lblAlgn val="ctr"/>
        <c:lblOffset val="100"/>
        <c:noMultiLvlLbl val="0"/>
      </c:catAx>
      <c:valAx>
        <c:axId val="56025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57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3A4-CA29-489B-8CDC-87953032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71F-1D75-4DD3-BAEA-D1485B0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162-F0BD-464D-A596-1947B53D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408-4F0E-4D34-B714-DA4D7659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DDA-BF5A-4D8C-B089-E8964E3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4FE-3826-4F4B-8A7D-F54F03D7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674-53A5-4ACB-8B62-47E53B2C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48A-30BF-48A8-921F-1661E5D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2D1-A755-4B45-B50F-21553A3C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9A2-0340-4478-98C6-24C9F04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8F9-4BE9-4933-8553-42041A0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5F2-E55F-49A6-88E6-2C97C27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75931-B10B-42E9-9C1C-4DE98C1CA4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