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82616"/>
        <c:axId val="39843479"/>
      </c:barChart>
      <c:catAx>
        <c:axId val="68882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43479"/>
        <c:crosses val="autoZero"/>
        <c:auto val="1"/>
        <c:lblAlgn val="ctr"/>
        <c:lblOffset val="100"/>
        <c:noMultiLvlLbl val="0"/>
      </c:catAx>
      <c:valAx>
        <c:axId val="39843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82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09D-F1E3-45B3-BA5A-75064D9C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AAA-A6FC-496F-BBDE-E614866D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FE4-1A84-4F21-AB6E-E5C97031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F64-A441-4945-86E1-2451E04D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C3B-A210-42CF-B9BE-470F2A91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8C5-B6BA-41DA-8D93-317060D8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3EF-176E-4534-94BE-9F7FE716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062-626B-416A-8F70-F1FA52A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4BD-9583-4E29-93A3-EB6BA73D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36F-9CF1-489C-9230-3512B5C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585-9A93-405C-83D9-0C758926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BFF-EF69-4091-9AC0-909D4C9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3944E-6B00-4C45-8B5A-E00B1381BC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