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43981"/>
        <c:axId val="13106834"/>
      </c:barChart>
      <c:catAx>
        <c:axId val="50743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106834"/>
        <c:crosses val="autoZero"/>
        <c:auto val="1"/>
        <c:lblAlgn val="ctr"/>
        <c:lblOffset val="100"/>
        <c:noMultiLvlLbl val="0"/>
      </c:catAx>
      <c:valAx>
        <c:axId val="13106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43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996E-5627-45F8-A8DD-05C0D204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9B5-AFF1-453C-879B-2E0842DD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5D1-42BB-4D9A-94FE-B35C6D14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CB3-D468-4ABD-9E8A-220D9086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816-8644-4825-94E4-15B9A615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4B61-A1EF-4115-A513-60574E30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BBC8-3297-4791-8A06-2B8D22DE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EF2-51D0-4DAD-BE00-0C4D6C2C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607-BCA1-493B-8671-2B2564F9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85F-175A-409F-87A1-6F079EF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DF0-5BA1-4591-B94A-7512A89B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D4F-D938-42D8-81BC-2D256905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3D042-B8C8-4956-B496-78A83286E6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