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073713"/>
        <c:axId val="49371991"/>
      </c:barChart>
      <c:catAx>
        <c:axId val="490737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1991"/>
        <c:crosses val="autoZero"/>
        <c:auto val="1"/>
        <c:lblAlgn val="ctr"/>
        <c:lblOffset val="100"/>
        <c:noMultiLvlLbl val="0"/>
      </c:catAx>
      <c:valAx>
        <c:axId val="493719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737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FB5E-A35B-4985-A47E-EF8B3114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385-89D4-443D-9C2B-ECF51AA3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52E-77CF-409B-B9C0-827830D35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AFE-81CE-4880-BDC4-80544D39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041-204D-4F53-B11D-B2C13C9D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22B-6C89-4570-A8DD-21AB452F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CE7-2CA6-482B-A682-D7500FF6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EA4-C19D-4449-8F96-AFFAB1D8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5B00-9630-4F3F-BFCB-93A34D55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0595-5FCB-42ED-9ED7-1A5D378B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42F-905E-462C-A60B-BC281B3D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004-A9AF-464D-B0BD-73F384CD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3D223-3316-4D90-A9BA-0BC94A91DE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