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25811"/>
        <c:axId val="79803317"/>
      </c:barChart>
      <c:catAx>
        <c:axId val="21225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3317"/>
        <c:crosses val="autoZero"/>
        <c:auto val="1"/>
        <c:lblAlgn val="ctr"/>
        <c:lblOffset val="100"/>
        <c:noMultiLvlLbl val="0"/>
      </c:catAx>
      <c:valAx>
        <c:axId val="79803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5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CCE-C570-45C2-AE46-FD16562C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202-CCBF-4744-8A4F-09FA4C3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86B-EA3E-49DA-9EF9-502F86DB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979-9A7E-46B0-ABCF-59EEAE14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0D5-B747-4CE3-8A83-1D2E5F4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067-6D0D-4AB8-B73F-3244670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332-DD1A-49B4-A61C-61A8A98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EB1-2161-459D-83C5-9FA3B20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356-EA50-415E-9FFF-FF99D592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BE8-F82F-4041-93CD-1D06907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119-4EA9-43DD-AABD-29D7D23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9C3-92C9-4641-B926-BDB77E3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7EF7-3BCC-4B45-AD1A-C830BB23D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