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602824"/>
        <c:axId val="88640800"/>
      </c:barChart>
      <c:catAx>
        <c:axId val="926028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40800"/>
        <c:crosses val="autoZero"/>
        <c:auto val="1"/>
        <c:lblAlgn val="ctr"/>
        <c:lblOffset val="100"/>
        <c:noMultiLvlLbl val="0"/>
      </c:catAx>
      <c:valAx>
        <c:axId val="886408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028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3F71-C40E-4705-8A31-B76287F3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2A62-05BD-477E-8A48-15A150B7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A260-B02A-46E6-B05D-2DE609DD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1BC4-D5F9-480F-A8C5-876157AB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702-154D-4B00-B61C-799B5E20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0C05-D063-4716-A7CA-725B798B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885A-977E-4385-BB82-FB2A41A2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D913-73F0-46F1-99D2-C664FB52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FC07-5F10-48EE-8BBD-BF3DFD7C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0CD6-C683-4182-BCD8-5F1FBFD2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1DA1-ED1A-4AC6-B6D1-DBF3C9A9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668B-C09A-4D32-BE72-4C22684C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52E53-FD7F-47C8-A653-9EDDE42777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