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93820"/>
        <c:axId val="70671525"/>
      </c:barChart>
      <c:catAx>
        <c:axId val="87793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71525"/>
        <c:crosses val="autoZero"/>
        <c:auto val="1"/>
        <c:lblAlgn val="ctr"/>
        <c:lblOffset val="100"/>
        <c:noMultiLvlLbl val="0"/>
      </c:catAx>
      <c:valAx>
        <c:axId val="70671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93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CDB-3CD2-48D8-BC28-ACBB442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75F-E610-4316-B609-D6A95CC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F25-39C4-499C-9089-130CD278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EE8-437B-4AFA-A1BC-7C975672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4B8-777B-4A79-8AFD-82DC928D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E30-E466-4A4A-A7CA-948E89D3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C5D-E87E-4BCB-AF8F-B79CA1E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152-4D2D-4644-81DF-27A64B98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3AE-D0C9-4EDD-8094-E818E5D8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7F4-EF2F-412B-87E6-D8B0062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342-3F28-4810-A40B-C6D4FBD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4E0-E221-4944-8687-8A44608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B8198-065E-4E9D-9164-F387A71C2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