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59144"/>
        <c:axId val="19166947"/>
      </c:barChart>
      <c:catAx>
        <c:axId val="26859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66947"/>
        <c:crosses val="autoZero"/>
        <c:auto val="1"/>
        <c:lblAlgn val="ctr"/>
        <c:lblOffset val="100"/>
        <c:noMultiLvlLbl val="0"/>
      </c:catAx>
      <c:valAx>
        <c:axId val="19166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59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8E3-A913-4423-A697-DA84DF08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2D7-C20E-459D-8802-3FC68F27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61D-3B38-4A46-AFF6-B2DBC6A2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E30-30D6-4241-BA67-870BE930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DD1-B2B1-4014-BFDB-A832ABAD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FF0-91E2-4569-8F37-47BE91EE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922-5D7B-443C-A61A-8008E0B9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437-7F23-49C5-B39D-44C01F5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01D-FE67-4C28-B8F2-ED4F458F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054-2616-477C-A95E-CC6B4FC4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6B9-89A6-4C33-9267-C0BF7A06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9D3-D9CA-409A-A596-569D56A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CB9A7-64C9-4036-B482-B8F5615868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