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9190"/>
        <c:axId val="8990239"/>
      </c:barChart>
      <c:catAx>
        <c:axId val="2219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0239"/>
        <c:crosses val="autoZero"/>
        <c:auto val="1"/>
        <c:lblAlgn val="ctr"/>
        <c:lblOffset val="100"/>
        <c:noMultiLvlLbl val="0"/>
      </c:catAx>
      <c:valAx>
        <c:axId val="8990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9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8AB-122F-4D81-AC15-B5375645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F9D-BBEA-4F8E-9C92-F8DBE508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4DE-237C-488A-B934-0010FB63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ECC-81B0-44A2-A26F-E0D4656D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AB9-ED5D-47DC-812E-1BEDEDA8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A2E-E48B-4E27-B92C-A62656EF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F1C-4378-414C-9F66-D0853225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5B0-B2D9-4BE3-B0F2-A6F4AF2C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65E-024A-4603-9698-2A749D97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1DE-2439-43AF-98EA-B07637FE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CE2-15CC-49E4-A2A7-CE884BE7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7AE-4427-42E3-992B-85FE9FB9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A4AD6-28EF-4B39-879A-8FD06B28D6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