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08982"/>
        <c:axId val="294587"/>
      </c:barChart>
      <c:catAx>
        <c:axId val="50108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587"/>
        <c:crosses val="autoZero"/>
        <c:auto val="1"/>
        <c:lblAlgn val="ctr"/>
        <c:lblOffset val="100"/>
        <c:noMultiLvlLbl val="0"/>
      </c:catAx>
      <c:valAx>
        <c:axId val="294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08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28C3-1C59-4C94-94D0-CF26F8E4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C7A-92E8-47C7-A8DA-7617E9FA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91E5-A6D2-48DC-BB2E-29238E01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2E1-B9AB-464B-9198-F853B8838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C51A-CA37-47FB-B96F-5B62272A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872-F23D-49DA-A5C5-DAFC06B3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162-28F0-43A0-990B-01A05466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6DFD-FDCC-44DF-9C62-CC164478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A6BA-31DA-48B6-9FFD-FFADF5E5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755B-694A-435B-BFFF-6390FA08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103-4B6D-4162-A18E-9A756D85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0118-BF29-47CC-AB10-62328195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BB014-88D6-4BEC-80A4-83D953068F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