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55767"/>
        <c:axId val="61688947"/>
      </c:barChart>
      <c:catAx>
        <c:axId val="95855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8947"/>
        <c:crosses val="autoZero"/>
        <c:auto val="1"/>
        <c:lblAlgn val="ctr"/>
        <c:lblOffset val="100"/>
        <c:noMultiLvlLbl val="0"/>
      </c:catAx>
      <c:valAx>
        <c:axId val="61688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55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517-FA0E-4034-AAC0-2829DF70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826-83DE-451F-B50A-AD4FB94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997-7437-4481-9C52-518F51CF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6D9-6901-4045-8426-42B7B069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34C-FFB6-43A4-AE5F-5034C8A2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C3C-5B4D-44B4-B29C-FF45F38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C95-6D29-4BE7-8F26-6470672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BB6-4F0F-4C62-9E95-5946EE2F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831-3BB5-4B8B-A6A8-83CB1CD3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AAD-E5B8-4DB1-9D74-418A744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A8C-FC99-4574-BCEF-B8F54BD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D3A-CF23-4BFE-B346-E99DD8D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5D30C-8B5A-4113-B6C5-2504034DBF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