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17574"/>
        <c:axId val="76844785"/>
      </c:barChart>
      <c:catAx>
        <c:axId val="31617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44785"/>
        <c:crosses val="autoZero"/>
        <c:auto val="1"/>
        <c:lblAlgn val="ctr"/>
        <c:lblOffset val="100"/>
        <c:noMultiLvlLbl val="0"/>
      </c:catAx>
      <c:valAx>
        <c:axId val="76844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17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878-6E46-44B5-8175-374F4B13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D41-94A0-469B-9274-BE4BFD9C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EA2-1003-436B-ACA5-58C8490F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AF5-48C0-4B2D-9A4D-9C8EB9FE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FF7-5604-4394-8800-45383103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937-D810-4549-9C2B-A07C75AB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9D1-180C-454A-9BD2-A062C863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7A5-5123-47A8-93F2-B7FBD17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879-E4DA-4F48-8257-E8A4D58B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142-810F-4571-A096-6A5F573E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E4C-4915-474C-BEED-D98599DC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F22-5B6C-44D2-8C7A-B409946B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B83B5-FF46-4E74-B4DF-8443640A41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