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57779"/>
        <c:axId val="57628786"/>
      </c:barChart>
      <c:catAx>
        <c:axId val="98857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28786"/>
        <c:crosses val="autoZero"/>
        <c:auto val="1"/>
        <c:lblAlgn val="ctr"/>
        <c:lblOffset val="100"/>
        <c:noMultiLvlLbl val="0"/>
      </c:catAx>
      <c:valAx>
        <c:axId val="57628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57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30C-F045-404D-9AA7-5889F6CE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585-8003-4342-9210-6D3F76CA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6A3-BD4A-43B0-A2CD-284C78ED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9C4-106C-45C4-9AA5-B20CA4AE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ED9-7721-428F-A5CB-4196112D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6A6-C02D-4466-90E7-3DFD2620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B65-BD6B-4D19-8B36-843A8F37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9C9-1404-4226-8454-A72C93F5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C8B-8B7F-4E39-9555-2E480D13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684-D1A2-44A4-A58A-B5F87D7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37F-E3E7-4678-99A7-921C0884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F05-D0CB-446D-9235-A2A6E18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5C810-9CC6-4180-84C9-8E66D6ACF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