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754341"/>
        <c:axId val="2097654"/>
      </c:barChart>
      <c:catAx>
        <c:axId val="757543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7654"/>
        <c:crosses val="autoZero"/>
        <c:auto val="1"/>
        <c:lblAlgn val="ctr"/>
        <c:lblOffset val="100"/>
        <c:noMultiLvlLbl val="0"/>
      </c:catAx>
      <c:valAx>
        <c:axId val="20976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543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72CF-2CBF-4A3F-B0CB-4EC938116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F67E-32FD-4B46-ABF0-57363AC4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5259-C34E-4254-8516-610DBE2C2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B34D-060E-4662-A37E-970311DD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5FCF-3573-4A7D-9202-6CF80061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E944-354A-44D2-AC4D-FE34282F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D251-6407-4DFD-A06A-282FF4DF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C8E5-DCB5-457A-810F-22F734DF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B153-01BE-44A3-8266-670E678F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52B4-E3E6-4941-8D3E-44EC8717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B919-457F-467F-8187-550EBFF7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4ED2-DE53-48D4-90F5-7ECB2E5D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AF73A-F0D2-4E30-8C6F-BCAE35A612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