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67838"/>
        <c:axId val="39981902"/>
      </c:barChart>
      <c:catAx>
        <c:axId val="36367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81902"/>
        <c:crosses val="autoZero"/>
        <c:auto val="1"/>
        <c:lblAlgn val="ctr"/>
        <c:lblOffset val="100"/>
        <c:noMultiLvlLbl val="0"/>
      </c:catAx>
      <c:valAx>
        <c:axId val="3998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7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9F0-0EE3-463C-B121-68ECCDE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65D-E7E5-4F43-9FCA-BD1B9C1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E60-4107-4F3E-A74D-45F8D7E2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8B3-D199-4FA8-9D46-861AFF63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52F-B04C-4B8C-9EDB-4911269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7CF-9B8E-470D-AEBB-D59E2EA6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900-4861-4F64-8B69-0D765F7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A7B-EA1A-4166-84FF-0F5DE6C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846-CD5E-4B29-8229-054C8AB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CD7-4F45-4337-895F-E048600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833-F512-4168-A6E3-E51C9536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CB0-F293-422E-95C3-1A11517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C42AF-1D6C-4EE0-989B-39D4152B27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