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22670"/>
        <c:axId val="55140824"/>
      </c:barChart>
      <c:catAx>
        <c:axId val="81022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40824"/>
        <c:crosses val="autoZero"/>
        <c:auto val="1"/>
        <c:lblAlgn val="ctr"/>
        <c:lblOffset val="100"/>
        <c:noMultiLvlLbl val="0"/>
      </c:catAx>
      <c:valAx>
        <c:axId val="55140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2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645-5824-4594-B03B-6E115195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CA0-D3C6-4BAE-BA03-3D1D58D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943-5C48-4404-98F2-CF25F54F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FD1-B918-4277-A9BD-EF7AD110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DF2-2BE7-4084-BD3E-B73E6476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3F2-307B-43AF-8706-C0BCF275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B13-9FF7-42AC-94F0-2351403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4C8-9F36-42E2-8979-8B64E7F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405-FF7E-450E-BB6A-E6615B29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608-AFE3-4833-98E3-1D86B628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A7C-9722-4B75-AFD3-95CFF97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3A9-DF1B-451E-B753-DC7B8B3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2CAC2-6A55-4AC1-B8C7-D7B6A8574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