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11592"/>
        <c:axId val="64173688"/>
      </c:barChart>
      <c:catAx>
        <c:axId val="67911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73688"/>
        <c:crosses val="autoZero"/>
        <c:auto val="1"/>
        <c:lblAlgn val="ctr"/>
        <c:lblOffset val="100"/>
        <c:noMultiLvlLbl val="0"/>
      </c:catAx>
      <c:valAx>
        <c:axId val="64173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11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A43-DE3D-471B-AC3E-EED69269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10A-9A5E-4271-B7D7-DB32AD7A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415-E32C-4D76-ABEC-ECF04263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46F-0D7B-4ECF-A569-965A9BE1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44B-4BC2-48FF-B731-AE11480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0AF-B70C-486F-BE96-37486EC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75E-8617-4C6F-AEEB-973EAF0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BC6-A5F0-4716-A920-686415F2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E03-3345-4CD2-85A0-16C59A9D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796-30E2-4A37-AA78-5E6ACC1E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B93-9E09-43D1-980E-D21DA06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327-2B04-49DB-8D7F-F15E9D53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4575-8118-4A3A-96FC-C89A11F06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