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57051"/>
        <c:axId val="73045310"/>
      </c:barChart>
      <c:catAx>
        <c:axId val="67757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5310"/>
        <c:crosses val="autoZero"/>
        <c:auto val="1"/>
        <c:lblAlgn val="ctr"/>
        <c:lblOffset val="100"/>
        <c:noMultiLvlLbl val="0"/>
      </c:catAx>
      <c:valAx>
        <c:axId val="7304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57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DC5-FDBB-4D29-B404-16B4C7EE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330-568C-4B7A-AF20-EB3F114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9F7-CBF4-4F8E-9E7E-1FFFAAF4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670-C8DF-4B63-9CFA-1CDC4E9F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052-B3B7-41A7-87DA-007C7ED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24F-1AD4-4AE0-AF5A-733F17C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4FF-0DDB-4180-AE96-17F7A69D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80F-E408-4082-9F89-82A7F397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0FB-1C18-4DEF-90FA-E32F2C9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327-7B4D-4EE2-9B1B-7184FDC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178-407D-4342-857B-3E4A5D0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594-CF01-45BF-92FB-6604938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BE967-46D4-4BB7-8D83-6A7DDF7D2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