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61723"/>
        <c:axId val="65261100"/>
      </c:barChart>
      <c:catAx>
        <c:axId val="753617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61100"/>
        <c:crosses val="autoZero"/>
        <c:auto val="1"/>
        <c:lblAlgn val="ctr"/>
        <c:lblOffset val="100"/>
        <c:noMultiLvlLbl val="0"/>
      </c:catAx>
      <c:valAx>
        <c:axId val="65261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617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39D2-5276-4872-8EDF-1F9BD67E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5C49-E759-4F17-AA6E-64079540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303-B547-4C61-851C-72B68FF6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34D-C60F-40EC-8CF3-CE177BE5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C17-5772-462D-B05E-092A2BB0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976-0CA3-4D40-8CCC-62EF534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A0DF-712B-4434-A7EC-73AA7DD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D55-853D-40C3-A270-0D322A93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536D-D54B-4B9C-8DD9-36B64508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8D8-D0F4-417B-9479-986AB309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25F-C01D-4157-97EF-61256910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59E-A7E6-4734-8252-D3883D9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AA57B-2CC1-451A-A9E5-481B5A2E0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